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4CF4-FC55-49F5-AA07-92BE509727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2035-DFEB-4709-A4AD-E091277F2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urope IR caused a need for land, land was taken away from ppl causing more poverty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tle island, old fort, was first used for processing (1855-1890)  but by 1890 could not handle the large numbers coming in. Ellis island b/w 1892-1920 handled more than 23 million ppl Checked for trachoma (eye disease common in southern and eastern Euro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s were often changed b/c officers mispronounced them or couldn’t understand or ppl willing changed them to sound more “American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0396-18B7-410F-A4ED-44455783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1980-AA92-474C-9BBC-3FDEC3AF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8EE2-0105-40F9-90F2-60BAA695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04F3-E3BC-4A3F-8D45-408A8753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D3C3-70A7-4344-B8B1-BBBAC7FB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82B-67EF-4C88-A506-AC690073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E1CB-51AE-43D0-904A-AB6A4C62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DF48-7FB6-495C-AC2B-13E02CE5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7F53-531C-481C-95DE-C3F0E481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9015-ED38-40C5-939D-7C5CC7B1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D10-C60B-472F-827A-7E6263CC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F71E-BC7C-4E74-983C-ECF635ED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0FC8-BA55-46D5-A8FE-DB1E03CF6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is Is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el Is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ese Exclusion Act (188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tlemen’s Agreement (190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v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enopho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Angel-Island-Women-1"/>
          <p:cNvPicPr/>
          <p:nvPr/>
        </p:nvPicPr>
        <p:blipFill>
          <a:blip r:embed="rId1"/>
          <a:stretch/>
        </p:blipFill>
        <p:spPr>
          <a:xfrm>
            <a:off x="304920" y="3429000"/>
            <a:ext cx="3733560" cy="32180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8"/>
          <p:cNvSpPr/>
          <p:nvPr/>
        </p:nvSpPr>
        <p:spPr>
          <a:xfrm>
            <a:off x="1536840" y="219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1" descr="Angel Island Site: "/>
          <p:cNvPicPr/>
          <p:nvPr/>
        </p:nvPicPr>
        <p:blipFill>
          <a:blip r:embed="rId2"/>
          <a:stretch/>
        </p:blipFill>
        <p:spPr>
          <a:xfrm>
            <a:off x="380880" y="457200"/>
            <a:ext cx="3657600" cy="2570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6"/>
          <p:cNvSpPr/>
          <p:nvPr/>
        </p:nvSpPr>
        <p:spPr>
          <a:xfrm>
            <a:off x="4738680" y="380880"/>
            <a:ext cx="4109760" cy="581400"/>
          </a:xfrm>
          <a:prstGeom prst="rect">
            <a:avLst/>
          </a:prstGeom>
          <a:solidFill>
            <a:srgbClr val="ffff00">
              <a:alpha val="50000"/>
            </a:srgbClr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el Island (San Fr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4724280" y="1371600"/>
            <a:ext cx="441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ing station in W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4720320" y="2362320"/>
            <a:ext cx="40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ty, crowded, p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ike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4724280" y="3809880"/>
            <a:ext cx="4114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 more severe th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is Island—longer time, hars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98520" y="380880"/>
            <a:ext cx="2625120" cy="581400"/>
          </a:xfrm>
          <a:prstGeom prst="rect">
            <a:avLst/>
          </a:prstGeom>
          <a:solidFill>
            <a:srgbClr val="ffff00">
              <a:alpha val="50000"/>
            </a:srgbClr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i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84480" y="1359000"/>
            <a:ext cx="7781040" cy="2531160"/>
          </a:xfrm>
          <a:prstGeom prst="rect">
            <a:avLst/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tivi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native born Americans belief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migration should be restricted and that job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go to Amer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based on racism,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ition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feelings of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Xenopho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57560" y="4267080"/>
            <a:ext cx="655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d t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Chinese Exclusion Act (188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Gentleman’s Agreement (190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Racial conflicts across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064600" y="685800"/>
            <a:ext cx="5014800" cy="642600"/>
          </a:xfrm>
          <a:prstGeom prst="rect">
            <a:avLst/>
          </a:prstGeom>
          <a:solidFill>
            <a:srgbClr val="ffff00">
              <a:alpha val="50000"/>
            </a:srgbClr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migration during the 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76800" y="2849400"/>
            <a:ext cx="76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id people leave their native countr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55280" y="4876920"/>
            <a:ext cx="67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id “Americans” react to the n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migra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71760" y="1905120"/>
            <a:ext cx="810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id people emigrate from during the I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755640" y="3886200"/>
            <a:ext cx="67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were the immigrants proces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immig_2"/>
          <p:cNvPicPr/>
          <p:nvPr/>
        </p:nvPicPr>
        <p:blipFill>
          <a:blip r:embed="rId1"/>
          <a:stretch/>
        </p:blipFill>
        <p:spPr>
          <a:xfrm>
            <a:off x="571680" y="-380880"/>
            <a:ext cx="8305560" cy="70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38680" y="228600"/>
            <a:ext cx="7934760" cy="581400"/>
          </a:xfrm>
          <a:prstGeom prst="rect">
            <a:avLst/>
          </a:prstGeom>
          <a:solidFill>
            <a:srgbClr val="ffff00">
              <a:alpha val="50000"/>
            </a:srgbClr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ial Revolution Immigration—East Co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54440" y="1219320"/>
            <a:ext cx="8053560" cy="581400"/>
          </a:xfrm>
          <a:prstGeom prst="rect">
            <a:avLst/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70—1920:  20 million Europeans came to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16360" y="1981080"/>
            <a:ext cx="792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= people who came before 1890, most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Western &amp; Northern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0" y="3429000"/>
            <a:ext cx="497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= people who came after 1890, mostly from South &amp; East Europe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" descr="ellis-1"/>
          <p:cNvPicPr/>
          <p:nvPr/>
        </p:nvPicPr>
        <p:blipFill>
          <a:blip r:embed="rId1"/>
          <a:stretch/>
        </p:blipFill>
        <p:spPr>
          <a:xfrm>
            <a:off x="5029200" y="2666880"/>
            <a:ext cx="3886200" cy="2557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214200" y="520056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152280" y="5562720"/>
            <a:ext cx="8763120" cy="1068840"/>
          </a:xfrm>
          <a:prstGeom prst="rect">
            <a:avLst/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80—1920: 260,000 people from Latin Am and Caribb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1076760" y="228600"/>
            <a:ext cx="6228000" cy="581400"/>
          </a:xfrm>
          <a:prstGeom prst="rect">
            <a:avLst/>
          </a:prstGeom>
          <a:solidFill>
            <a:srgbClr val="ffff00">
              <a:alpha val="50000"/>
            </a:srgbClr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s for Emigration from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USAEireland2"/>
          <p:cNvPicPr/>
          <p:nvPr/>
        </p:nvPicPr>
        <p:blipFill>
          <a:blip r:embed="rId1"/>
          <a:stretch/>
        </p:blipFill>
        <p:spPr>
          <a:xfrm>
            <a:off x="304920" y="3733920"/>
            <a:ext cx="4267080" cy="2547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300240" y="1219320"/>
            <a:ext cx="50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came to US to escap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53240" y="1905120"/>
            <a:ext cx="378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eme poverty (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ish Fami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5024160" y="1371600"/>
            <a:ext cx="40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 many people, n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ough jo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4952160" y="2895480"/>
            <a:ext cx="343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gious/politic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ecution (ex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 of Jew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5181480" y="5029200"/>
            <a:ext cx="28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d mili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139480" y="228600"/>
            <a:ext cx="5001120" cy="581400"/>
          </a:xfrm>
          <a:prstGeom prst="rect">
            <a:avLst/>
          </a:prstGeom>
          <a:solidFill>
            <a:srgbClr val="ffff00">
              <a:alpha val="50000"/>
            </a:srgbClr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 Immigration—West Co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842040" y="1143000"/>
            <a:ext cx="7081560" cy="581400"/>
          </a:xfrm>
          <a:prstGeom prst="rect">
            <a:avLst/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50—1883:  200,000 Asians came to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22"/>
          <p:cNvPicPr/>
          <p:nvPr/>
        </p:nvPicPr>
        <p:blipFill>
          <a:blip r:embed="rId1"/>
          <a:stretch/>
        </p:blipFill>
        <p:spPr>
          <a:xfrm>
            <a:off x="4952880" y="2133720"/>
            <a:ext cx="3733920" cy="3713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376200" y="2133720"/>
            <a:ext cx="51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e during California G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sh (184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2160" y="3657600"/>
            <a:ext cx="502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ed on Railroads and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towns in the W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70440" y="5181480"/>
            <a:ext cx="682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ed discrimination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job competition and different cul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00200" y="380880"/>
            <a:ext cx="4484520" cy="581400"/>
          </a:xfrm>
          <a:prstGeom prst="rect">
            <a:avLst/>
          </a:prstGeom>
          <a:solidFill>
            <a:srgbClr val="ffff00">
              <a:alpha val="50000"/>
            </a:srgbClr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s for coming to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28600" y="12952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S and economic opportunities of the Industrial R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-235080" y="3138480"/>
            <a:ext cx="67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Chance to own land in the W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21760" y="2209680"/>
            <a:ext cx="57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ligious and political free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ellis2"/>
          <p:cNvPicPr/>
          <p:nvPr/>
        </p:nvPicPr>
        <p:blipFill>
          <a:blip r:embed="rId1"/>
          <a:stretch/>
        </p:blipFill>
        <p:spPr>
          <a:xfrm>
            <a:off x="6132600" y="2743200"/>
            <a:ext cx="261288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landrushimage7"/>
          <p:cNvPicPr/>
          <p:nvPr/>
        </p:nvPicPr>
        <p:blipFill>
          <a:blip r:embed="rId2"/>
          <a:stretch/>
        </p:blipFill>
        <p:spPr>
          <a:xfrm>
            <a:off x="990720" y="3886200"/>
            <a:ext cx="3962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74480" y="304920"/>
            <a:ext cx="3257640" cy="581400"/>
          </a:xfrm>
          <a:prstGeom prst="rect">
            <a:avLst/>
          </a:prstGeom>
          <a:solidFill>
            <a:srgbClr val="ffff00">
              <a:alpha val="50000"/>
            </a:srgbClr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is Island (NY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ellis_island_l"/>
          <p:cNvPicPr/>
          <p:nvPr/>
        </p:nvPicPr>
        <p:blipFill>
          <a:blip r:embed="rId1"/>
          <a:stretch/>
        </p:blipFill>
        <p:spPr>
          <a:xfrm>
            <a:off x="4876920" y="304920"/>
            <a:ext cx="3962160" cy="269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asset_upload_file427_12186"/>
          <p:cNvPicPr/>
          <p:nvPr/>
        </p:nvPicPr>
        <p:blipFill>
          <a:blip r:embed="rId2"/>
          <a:stretch/>
        </p:blipFill>
        <p:spPr>
          <a:xfrm>
            <a:off x="5257800" y="32004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3a13599r"/>
          <p:cNvPicPr/>
          <p:nvPr/>
        </p:nvPicPr>
        <p:blipFill>
          <a:blip r:embed="rId3"/>
          <a:stretch/>
        </p:blipFill>
        <p:spPr>
          <a:xfrm>
            <a:off x="380880" y="3676680"/>
            <a:ext cx="3962520" cy="3181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149400" y="1143000"/>
            <a:ext cx="460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ing station in E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46520" y="1676520"/>
            <a:ext cx="499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ed for diseas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cy, ability to work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50480" y="2849400"/>
            <a:ext cx="30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% turned a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Ellis_Island_manifest_1913"/>
          <p:cNvPicPr/>
          <p:nvPr/>
        </p:nvPicPr>
        <p:blipFill>
          <a:blip r:embed="rId1"/>
          <a:stretch/>
        </p:blipFill>
        <p:spPr>
          <a:xfrm>
            <a:off x="490680" y="0"/>
            <a:ext cx="816264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11:34:47Z</dcterms:created>
  <dc:creator>Gateway </dc:creator>
  <dc:description/>
  <dc:language>en-US</dc:language>
  <cp:lastModifiedBy>Mark Greer</cp:lastModifiedBy>
  <cp:lastPrinted>2010-03-03T12:38:45Z</cp:lastPrinted>
  <dcterms:modified xsi:type="dcterms:W3CDTF">2010-10-20T02:25:15Z</dcterms:modified>
  <cp:revision>9</cp:revision>
  <dc:subject/>
  <dc:title>PowerPoint Presentation</dc:title>
</cp:coreProperties>
</file>